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7B5-8A31-4FC3-8C74-21C102D0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CA2-C690-4B77-96B2-0725F057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42A-9916-4CF2-A4BD-462DA693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59D-785C-4281-91F0-630E9B14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2FA-5507-4400-B9D4-78671AF4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9642-34BA-4969-AD23-7DA9E99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6CBE-5267-433F-A9AC-B3520D1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E94C-4875-41E6-9B0F-299A8B10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8FC-D0E4-4335-8000-B4A1849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F46A-6D88-44B4-AEA3-9F66C840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3CC-9388-499F-ABB2-85C96D0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408-A60B-460C-9E85-DCC2D51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945-197B-4CF6-9CE1-5E4AC4C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D190-DCD7-49B6-B334-516F8BC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9445-ACC4-4741-915C-70F1251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37C8-C582-4632-81A2-BC38407C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F5F-639F-4878-8AC6-A57B2FE5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AE2-19C4-4552-9490-5388B49D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3F1-FA26-4D69-B139-B0AC815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A64-9A9A-4572-B73E-69FC06E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4D7-CCBD-4565-BC66-2C24802B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70A-129E-44CF-95C8-F689738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A22-D6EE-48A7-A697-EDEB321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AAC-547F-4610-9B3A-0A93FCC1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2521-6287-4256-9246-7DB82B24FD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0AB-ED70-4CC1-8BC7-1AE92A6C87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arison Between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-threshold and Adiabatic Power Saving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nathan Bolus an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uart Woot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iabatic Adder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1080" y="2499840"/>
            <a:ext cx="66373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300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6 u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iabatic is not as affective at small values of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ower than 2V).  This is evident in the 90nm technology w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-threshold saved 26x the power compared to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 0.5V, 400MHz, V/sub 00/-hopping processor with zero-V/sub TH/ FD-SOI technolog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Kawaguchi, H.; Kanda, K.; Nose, K.; Hattori, S.; Dwi, D.; Antono, D.; Yamada, D.; Miyazaki, T.; Inagaki, K.; Hiramoto, T.; Sakurai, T.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lid-State Circuits Conference, 2003. Digest of Technical Papers. ISSCC. 2003 IEEE Internatio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3 Page(s):106 - 481 vol.1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igital Object Identifier 10.1109/ISSCC.2003.1234227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 Efficient Charge Recovery Logic Circui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Yong Moon, and Deog-Kyoon Jeong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E Journal of Solid-State Circuits, Vol, 31, No.4, April 199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ry Look Ahead Ad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92280" y="2362320"/>
            <a:ext cx="4384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mparison of different V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Arial"/>
              </a:rPr>
              <a:t>D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431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wer Consumption Comparison with VDD=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7120" y="2362320"/>
            <a:ext cx="5773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-threshold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7.18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143.6 n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440" y="791640"/>
            <a:ext cx="7483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4305600" cy="40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1680" y="106668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fficient Charge Recovery 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2860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ssentially Differential Cascode Voltage Switch Logic (DCVS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DD replaced by power clock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2819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440" y="944280"/>
            <a:ext cx="748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ck Ti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166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 Inver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nsum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9250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2:19:14Z</dcterms:created>
  <dc:creator>Stuart Wooters</dc:creator>
  <dc:description/>
  <dc:language>en-US</dc:language>
  <cp:lastModifiedBy>Stuart Wooters</cp:lastModifiedBy>
  <dcterms:modified xsi:type="dcterms:W3CDTF">2006-11-30T18:11:09Z</dcterms:modified>
  <cp:revision>5</cp:revision>
  <dc:subject/>
  <dc:title>Slide 1</dc:title>
</cp:coreProperties>
</file>